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26B-1BEF-47CE-BFE8-4963CD84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528-A4B8-4807-A94A-D77D1ECE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2E1-FAC4-4DB9-ADA6-233847769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1A4-2849-4AED-891B-59E55F0E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4EC9-8786-40D1-A96C-296A994B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B6F5-0A1B-4203-B4FC-84CA9085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CBD5-1013-4530-89D3-9D112A45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BDE1-9750-492A-82E3-B7B56D24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3EFF-D8BD-4CB5-812C-36350162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1EA2-2E6B-4163-A9F6-96962825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076C-AF1D-4C39-9FA7-ECBAA783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386-76AA-4F71-B5E2-1D093A44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2549-CCC3-46E1-A7CE-DB635C9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E064-8409-452E-B001-78B3165A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EF44-3A42-4DB2-B2E5-8C8731DC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A95D-B0D1-4C5A-912F-C4944991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2BD9-6128-4B75-A734-BE25AE1F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8F9B-5FF2-476E-95E2-B4BF7CF5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0F08-72F3-4443-A0F0-EEEC1617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34D61-11D4-4819-B688-9FDA9CD7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ED9E-235E-4341-BE1B-F1E52CDC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D6C8-D924-4507-B285-F0F80E55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E09-063F-4BEB-A2D7-8753AC45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CAC5-EF70-4E9B-B881-5BADAF99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3F30-F443-4C9D-A094-DE829EF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D21E-519A-44DB-A8EC-7ECB18F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1408-FF7E-45E4-A4E9-E06B4CB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4D0D-2024-427B-BEB7-31A0ED30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4A03-0ADE-4109-955E-E8952CC1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E9173-DAC3-461F-8048-E3F66797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061E-BFDE-41F2-AD73-4A3954F5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D668-FC21-460F-BA72-320C39A8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0EA8A-5925-4ADE-A7ED-52195218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964-3AEB-4862-980F-62C72190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9073A-3CB5-44E8-B82A-F6A5D3D2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23E8-4389-4FC6-B26D-BEB99CF1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3371-7540-4823-B443-D51C37E5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1AF5E-BB0D-4FB6-B25F-C578386B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25D40-B6A7-4C44-A2C2-B554F9D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B0E4C-8B29-40AC-9A4B-55AC9C8C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E1C6-7F64-4098-AEC4-3748701C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761F7-8AED-44F3-ADE2-86E92630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FC70C-4BA7-47B2-B526-D7D6AFB2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F99A8-74DA-4C07-85C9-0412B725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670-8ABA-4098-A631-9A7B6A71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35FA7-6A2B-4A5C-8FEF-FEC166BD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113AD-C739-40DB-9F1F-A499CE1D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739AB-C5CD-4789-AEC7-42020FFB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E51F2-4A62-48F6-8E27-0C1AB820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CF4F8-4C43-4458-801D-B0DB580F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A1E8C-5A61-4A88-8A7C-5937B8E0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3A45A-8423-443B-B250-E3C66B26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9E033-2A3F-4B5A-A0AA-D87042C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15BE-41A8-40AD-9C18-4E333FAC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523C8-2788-4B95-AEE9-22E5E52D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FF3-0594-4359-945C-4BA4C6FB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D0761-BF57-4625-84AF-6255EF50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569A-22A9-48FD-8210-0C65F3A9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75EA3-92AE-42A6-82E4-DAD64DCC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7E677-DA71-417F-8496-BBEC930B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369B1-4470-4F6F-8FB6-D361458F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22BB9-BD2D-40D5-AA29-DC4F2EA7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C53C4-5E6C-4046-AA7E-C36AA088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6C99E-3418-4493-BC51-3BDD4C1B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7BC09-1569-44BB-9FDD-A529573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A5E89-839C-48E8-8618-C7BBF84C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E89-8F86-47A4-A1D8-BF23CB7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19D98-AEA5-47A7-ADAE-CDACBE90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78F80-6E57-4746-9EA4-12BFACB4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7230A-8D31-4CFD-BA69-733039AB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682F4-C972-4D96-8200-09391345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B5D1E-76D4-4358-ACA7-5D69C66D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B2D16-CC49-4FB7-8192-C0E436B2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12ED0-390B-45BB-B425-0EABD8FB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E433-BD4A-4E0E-A733-0D3C6196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1793-873E-4050-B5FD-AEEFB301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FC014-F140-412E-9C7F-3ACD2D48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139-1A0A-443B-A230-AF98834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6F9AE-0805-4D7D-B910-30663463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ADA71-F897-40BC-BDC0-061B897C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F6F6E-B3F8-4D9F-BA35-4C2EDFFC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54D14-406B-4287-A93C-EF6563E5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4F9D1-437E-4075-82D6-F17BCDB1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A2B-F78F-4AD8-839D-88A3FC19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8DCC-A850-4CE4-9902-8525A4998D04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B047-E538-4EDD-B551-4021E643B7D6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2E1-EC0E-481C-A6E1-64A2ACA3FF33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CA6C-B73D-4FA0-A7B3-91AC33306B17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A72F-CB09-4A5E-92B1-F0CBEE79CCBB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C8AA-7822-4D53-BCFC-FC02FFB3C3EF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93D2-E2C0-419B-8AD9-EB0483F760D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93A0-6793-40C9-8E7C-610EB3C20F75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625D-2980-432F-AF8E-2C37EBCBFF7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BB8A-DFA2-4680-B4AA-E0FF0EA713C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FFA9-2A91-4F28-AADE-DC0599CB708B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EDAE-FDA4-4041-A31B-B01AF097401F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A0EC-3919-49D9-9CF6-E5F7CEC5B767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B7AC-6C8C-468A-92A4-A98B5AC6C79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tob.cz/tabulky-a-cisla-co-se-jinam-neveslo/zhodnotte-si-svoji-vahu" TargetMode="External"/><Relationship Id="rId2" Type="http://schemas.openxmlformats.org/officeDocument/2006/relationships/hyperlink" Target="http://www.wikiskripta.eu/index.php/Diabetes_mellitus_2._typu_%28endokrinologie%29" TargetMode="External"/><Relationship Id="rId3" Type="http://schemas.openxmlformats.org/officeDocument/2006/relationships/hyperlink" Target="http://www.wikiskripta.eu/index.php/Steat&#243;za_jater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900000" y="5199120"/>
            <a:ext cx="7488360" cy="15476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4920" y="189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školy: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 Black"/>
              </a:rPr>
              <a:t>Vlivy prostředí a výživy na zdraví a nemo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Y_32_INOVACE_KLN.2.0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13.11.20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utor:</a:t>
            </a:r>
            <a:r>
              <a:rPr b="0" lang="cs-CZ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 Black"/>
              </a:rPr>
              <a:t>Veronika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Rausová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06 zahrnuje pojmy: vlivy prostředí na zdraví a nemoc, vlivy výživy a poruchy výživy kvalitativní a kvantitativní Prezentace je zakončena sérií otázek k opakování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Kvalitativní malnutri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ovitaminóz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ypervitaminózy – které vitamíny se dají předávkova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ty, které jsou rozpustné v tucích – A,D,E,K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evyvážený přísun cukrů / tuků / bílkov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eficit minerál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 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teré vlivy prostředí mají dopad na zdraví/nemoc člověka? Proč a jak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malnutric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kvalitativní a kvantitativní malnutrice? Uveďte příklad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 u="sng">
                <a:solidFill>
                  <a:srgbClr val="ffc800"/>
                </a:solidFill>
                <a:uFillTx/>
                <a:latin typeface="Arial Black"/>
              </a:rPr>
              <a:t>Vlivy prostředí a výživy na zdraví a nemoc</a:t>
            </a:r>
            <a:endParaRPr b="1" lang="en-US" sz="48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livy prostřed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Životní prostřed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acovní prostřed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Rodina, domov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polečno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Čím mohou škodit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nečištění (vzduch, půda, potraviny, materiály, voda…) &gt; zátěž jedy, alergie, onem. dých. systému, vrozené vývojové vady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tres, nejistota, konflikty, pocity nebezpečí, ne-smyslu existence (v. A. Antonovski-salutogeneze, holistické vidění zdraví a nemoci) &gt; psychosomatická onemocně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liv výživ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a čem zálež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Znalost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Hodno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Životní sty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Vzdělání (zdravý rozum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ruchy výživ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vantitativ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valitativ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co to je?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Kvantitativní poruchy výživ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Obezit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Jak se pozná? 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BM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Co způsobuje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Čím je způsoben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roč je nebezpečná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DM 2. typu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, kardiovaskulární onemocnění, onemocnění  pohybového aparátu ,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steatózy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Kvantitativní poruchy výživ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Podvýživa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Corbel"/>
              </a:rPr>
              <a:t>http://www.wikiskripta.eu/index.php/Podv%C3%BD%C5%BEiva_a_karen%C4%8Dn%C3%AD_stavy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rbel"/>
              </a:rPr>
              <a:t>Kachexie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 = marasmus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Marasmus#Marasmus 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(nedostatečný přísun energie &gt; anorexie, nádorová onemocnění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Výživa u nádorových onem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orbel"/>
              </a:rPr>
              <a:t>Kwashiorkor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 (deficit bílkovin)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Kwashiorkor#Kwashiorkor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15:27:05Z</dcterms:created>
  <dc:creator>Veronika</dc:creator>
  <dc:description/>
  <dc:language>en-US</dc:language>
  <cp:lastModifiedBy>Chalupna</cp:lastModifiedBy>
  <dcterms:modified xsi:type="dcterms:W3CDTF">2014-03-31T20:47:18Z</dcterms:modified>
  <cp:revision>9</cp:revision>
  <dc:subject/>
  <dc:title>Snímek 1</dc:title>
</cp:coreProperties>
</file>